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F6B60-BB06-48A1-87EB-AA5D745C4A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9FCFB-81A7-490F-A84C-6F4696E8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F3AE8-5FD2-45EA-8D7A-08919B91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C229A-62D9-4207-8AE0-6918EAC549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42898-6B42-4DEF-8BA2-78AD7EAF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C28B2-8AA3-408A-84F8-AF8CCF45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1E0AD-F648-4FD7-876A-3D8124FF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2CB29-0581-48AA-BEBD-CB27F218D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CAEFE-15C3-4E2D-BCCB-2C7898807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A9C0E-EE1A-4E26-A520-70AA7889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F42DB-25EE-4857-8806-BCDFB70D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DCEE2-C042-4563-8D2D-EABF575A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1EE6-100D-4D2D-B471-3C8A2D5140F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860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六章  营养障碍性疾病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同济大学医学院护理系  贾汝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7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-1645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各系统功能低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164520" indent="-1645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6"/>
          <p:cNvSpPr/>
          <p:nvPr/>
        </p:nvSpPr>
        <p:spPr>
          <a:xfrm>
            <a:off x="571680" y="2214720"/>
            <a:ext cx="835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功能低下，易发生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搏出量减少，血压偏低，脉细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量增多、尿比重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精神抑郁，烦躁不安，表情淡漠，反应迟钝，记忆力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非特异性和特异性免疫功能明显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560" y="1428840"/>
            <a:ext cx="88390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重不增、体重减轻、久之身长低于正常，身材矮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下脂肪削减顺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→躯干、臀部、四肢→面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皮下脂肪厚度是判断营养不良程度的重要指标之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肤干燥、松弛、苍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肉萎缩、肌张力低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温低于正常、脉搏减慢、心音低钝、血压偏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初期烦躁，后变得冷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“纳差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月余，发现体重下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”就诊。其母亲诉患儿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来易哭吵、食欲差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前发现体重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时下降，未添加任何辅食。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体重有所下降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多月前患“感染性腹泻”就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矩形 5"/>
          <p:cNvSpPr/>
          <p:nvPr/>
        </p:nvSpPr>
        <p:spPr>
          <a:xfrm>
            <a:off x="428760" y="300024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体重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6.2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2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身长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66.2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反应可，面色苍黄，皮肤弹性稍差，皮下脂肪薄，手臂、大腿和臀部明显皮肤皱褶，心肺（—），肝肋下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2.5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四肢肌张力正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7" name="Picture 2" descr="http://www.024haoyuzuche.com/img/aHR0cDovL3l5bmV3cy5jbm5iLmNvbS5jbi9waWMvMC8xMC8yMi85My8xMDIyOTM3NV84MjM1NjUuanBn.jpg"/>
          <p:cNvPicPr/>
          <p:nvPr/>
        </p:nvPicPr>
        <p:blipFill>
          <a:blip r:embed="rId1"/>
          <a:stretch/>
        </p:blipFill>
        <p:spPr>
          <a:xfrm>
            <a:off x="1714680" y="2000160"/>
            <a:ext cx="52146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9"/>
          <p:cNvSpPr/>
          <p:nvPr/>
        </p:nvSpPr>
        <p:spPr>
          <a:xfrm>
            <a:off x="468360" y="1557360"/>
            <a:ext cx="8001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清蛋白降低，出现营养不良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度营养不良可有重要脏器功能损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发症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营养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和微量元素缺乏，常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锌缺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免役功能低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易患各种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自发性低血糖，若不及时诊治，可致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营养不良的分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下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于同年龄、同性别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慢性或急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迟缓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高低于同年龄、同性别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过去或长期慢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瘦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于同性别、同身高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小儿近期、急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00040" y="1428480"/>
            <a:ext cx="76723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浆白蛋白浓度↓，为特征性改变，但半衰期较长，不够灵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样生长因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F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是早期诊断的灵敏、可靠指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71320" y="1571400"/>
            <a:ext cx="6624360" cy="55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治疗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5"/>
          <p:cNvSpPr/>
          <p:nvPr/>
        </p:nvSpPr>
        <p:spPr>
          <a:xfrm>
            <a:off x="1500120" y="2357280"/>
            <a:ext cx="485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积极处理各种危及生命的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去除病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调整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消化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755640" y="1774800"/>
            <a:ext cx="7273800" cy="43599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营养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那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能量、蛋白质长期摄入不足和（或）需要、消耗过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机体免疫功能低下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迟缓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营养素缺乏，不能满足生长发育的需要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潜在并发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营养性缺铁性贫血、低血糖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长缺乏喂养知识及育儿经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356920" y="2071440"/>
            <a:ext cx="592956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蛋白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量营养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单纯性肥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性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性手足搐搦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锌缺乏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85840" y="1857240"/>
            <a:ext cx="8610480" cy="38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促进消化，改善食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预防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观察病情  夜间及清晨易发生自发性低血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五）促进生长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调整饮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量的供给：轻度从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kcal/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重度从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5kcal/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质的供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及微量元素的补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尽量保证母乳喂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鼻饲喂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六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患儿家长解释导致营养不良的原因、治疗、护理及预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会家长观察病情，及时发现病情突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力提倡母乳喂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安排生活作息制度，坚持户外活动，充足睡眠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纠正不良卫生习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时预防接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期测量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250560" y="1990800"/>
            <a:ext cx="345924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第二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单 纯 性 肥 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8" name="Picture 8" descr="http://upload.njdaily.cn/2011/0811/1313025823683.jpg"/>
          <p:cNvPicPr/>
          <p:nvPr/>
        </p:nvPicPr>
        <p:blipFill>
          <a:blip r:embed="rId1"/>
          <a:stretch/>
        </p:blipFill>
        <p:spPr>
          <a:xfrm>
            <a:off x="4716360" y="2494080"/>
            <a:ext cx="3826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13840" y="2428560"/>
            <a:ext cx="8610840" cy="27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儿童单纯性肥胖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obesit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长期摄入超过人体消耗，使体内脂肪过度积聚，体重超过参考值范围的一种营养障碍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营养素摄入过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动量过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传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节饱食感及饥饿感的中枢失去平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精神创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理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3421080" y="836640"/>
            <a:ext cx="2376360" cy="431640"/>
          </a:xfrm>
          <a:prstGeom prst="rect">
            <a:avLst/>
          </a:prstGeom>
          <a:solidFill>
            <a:srgbClr val="d68ed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营养素摄入＞机体消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564000" y="4581360"/>
            <a:ext cx="2376360" cy="5749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蛋白质代谢异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612720" y="5589720"/>
            <a:ext cx="2376720" cy="108108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高血压、冠心病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动脉硬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611280" y="4508640"/>
            <a:ext cx="2376360" cy="72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高脂血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611280" y="3502080"/>
            <a:ext cx="2376360" cy="5745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代谢异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6516720" y="3357720"/>
            <a:ext cx="2376360" cy="5745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内分泌变化紊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3708360" y="5950080"/>
            <a:ext cx="2376360" cy="57456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尿酸增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3492360" y="2421000"/>
            <a:ext cx="237672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细胞数目增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细胞体积增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6516720" y="5013360"/>
            <a:ext cx="2376360" cy="158436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糖尿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肥胖、骨质病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生长激素减少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男性性功能降低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女性月经失调、不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3492360" y="1557360"/>
            <a:ext cx="2376720" cy="431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余能量转化为脂肪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Oval 14"/>
          <p:cNvSpPr/>
          <p:nvPr/>
        </p:nvSpPr>
        <p:spPr>
          <a:xfrm>
            <a:off x="3851280" y="3429000"/>
            <a:ext cx="1800360" cy="72072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肥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5"/>
          <p:cNvSpPr/>
          <p:nvPr/>
        </p:nvSpPr>
        <p:spPr>
          <a:xfrm>
            <a:off x="4572000" y="1270080"/>
            <a:ext cx="149400" cy="358560"/>
          </a:xfrm>
          <a:prstGeom prst="downArrow">
            <a:avLst>
              <a:gd name="adj1" fmla="val 50000"/>
              <a:gd name="adj2" fmla="val 6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16"/>
          <p:cNvSpPr/>
          <p:nvPr/>
        </p:nvSpPr>
        <p:spPr>
          <a:xfrm flipH="1">
            <a:off x="4566600" y="1989000"/>
            <a:ext cx="220680" cy="360360"/>
          </a:xfrm>
          <a:prstGeom prst="downArrow">
            <a:avLst>
              <a:gd name="adj1" fmla="val 50000"/>
              <a:gd name="adj2" fmla="val 408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AutoShape 17"/>
          <p:cNvSpPr/>
          <p:nvPr/>
        </p:nvSpPr>
        <p:spPr>
          <a:xfrm>
            <a:off x="4572000" y="3070080"/>
            <a:ext cx="289080" cy="358920"/>
          </a:xfrm>
          <a:prstGeom prst="downArrow">
            <a:avLst>
              <a:gd name="adj1" fmla="val 50000"/>
              <a:gd name="adj2" fmla="val 3104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4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18"/>
          <p:cNvSpPr/>
          <p:nvPr/>
        </p:nvSpPr>
        <p:spPr>
          <a:xfrm flipV="1">
            <a:off x="5724360" y="3573360"/>
            <a:ext cx="720720" cy="74880"/>
          </a:xfrm>
          <a:prstGeom prst="rightArrow">
            <a:avLst>
              <a:gd name="adj1" fmla="val 50000"/>
              <a:gd name="adj2" fmla="val 24062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19"/>
          <p:cNvSpPr/>
          <p:nvPr/>
        </p:nvSpPr>
        <p:spPr>
          <a:xfrm flipH="1" flipV="1">
            <a:off x="3060720" y="3713040"/>
            <a:ext cx="719280" cy="76320"/>
          </a:xfrm>
          <a:prstGeom prst="rightArrow">
            <a:avLst>
              <a:gd name="adj1" fmla="val 50000"/>
              <a:gd name="adj2" fmla="val 23561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20"/>
          <p:cNvSpPr/>
          <p:nvPr/>
        </p:nvSpPr>
        <p:spPr>
          <a:xfrm flipH="1">
            <a:off x="1688400" y="4076640"/>
            <a:ext cx="74520" cy="504720"/>
          </a:xfrm>
          <a:prstGeom prst="downArrow">
            <a:avLst>
              <a:gd name="adj1" fmla="val 50000"/>
              <a:gd name="adj2" fmla="val 1693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21"/>
          <p:cNvSpPr/>
          <p:nvPr/>
        </p:nvSpPr>
        <p:spPr>
          <a:xfrm>
            <a:off x="1692360" y="5157720"/>
            <a:ext cx="74520" cy="432000"/>
          </a:xfrm>
          <a:prstGeom prst="downArrow">
            <a:avLst>
              <a:gd name="adj1" fmla="val 50000"/>
              <a:gd name="adj2" fmla="val 14492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22"/>
          <p:cNvSpPr/>
          <p:nvPr/>
        </p:nvSpPr>
        <p:spPr>
          <a:xfrm flipH="1">
            <a:off x="4571280" y="4076640"/>
            <a:ext cx="358920" cy="504720"/>
          </a:xfrm>
          <a:prstGeom prst="downArrow">
            <a:avLst>
              <a:gd name="adj1" fmla="val 50000"/>
              <a:gd name="adj2" fmla="val 3515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23"/>
          <p:cNvSpPr/>
          <p:nvPr/>
        </p:nvSpPr>
        <p:spPr>
          <a:xfrm>
            <a:off x="4645080" y="5157720"/>
            <a:ext cx="287280" cy="719280"/>
          </a:xfrm>
          <a:prstGeom prst="downArrow">
            <a:avLst>
              <a:gd name="adj1" fmla="val 50000"/>
              <a:gd name="adj2" fmla="val 625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3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AutoShape 24"/>
          <p:cNvSpPr/>
          <p:nvPr/>
        </p:nvSpPr>
        <p:spPr>
          <a:xfrm flipH="1">
            <a:off x="7664400" y="4005360"/>
            <a:ext cx="147600" cy="865080"/>
          </a:xfrm>
          <a:prstGeom prst="downArrow">
            <a:avLst>
              <a:gd name="adj1" fmla="val 50000"/>
              <a:gd name="adj2" fmla="val 1465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其母亲诉患儿自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出现喜吃甜食，食欲旺盛，体重增加明显，现体重已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小儿肥胖症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矩形 5"/>
          <p:cNvSpPr/>
          <p:nvPr/>
        </p:nvSpPr>
        <p:spPr>
          <a:xfrm>
            <a:off x="428760" y="300024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0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5.8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皮下脂肪丰满，分布均匀，胸部、大腿和臀部明显皮肤紫纹，心肺（—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甘油三脂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.0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胆固醇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7.2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5680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560" y="1371240"/>
            <a:ext cx="648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肥胖可发生于任何年龄阶段，但最常见于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春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欲旺盛、喜吃甜食及高脂肪食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明显肥胖者有疲劳感，用力时气短、腿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肥胖者致肥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换氧不良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6" descr="http://p8.qhimg.com/dr/200_200_/t01446c5b01d3d31213.jpg"/>
          <p:cNvPicPr/>
          <p:nvPr/>
        </p:nvPicPr>
        <p:blipFill>
          <a:blip r:embed="rId1"/>
          <a:stretch/>
        </p:blipFill>
        <p:spPr>
          <a:xfrm>
            <a:off x="6715080" y="2643120"/>
            <a:ext cx="21988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 rot="10800000">
            <a:off x="304920" y="6248520"/>
            <a:ext cx="86104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8" name="Picture 2" descr="http://info.xinhua.org/newphmall/XHS_Mid_175249377_8.JPG"/>
          <p:cNvPicPr/>
          <p:nvPr/>
        </p:nvPicPr>
        <p:blipFill>
          <a:blip r:embed="rId1"/>
          <a:stretch/>
        </p:blipFill>
        <p:spPr>
          <a:xfrm>
            <a:off x="2071800" y="1785960"/>
            <a:ext cx="4752720" cy="322884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560" y="128556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的概念、儿童单纯性肥胖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描述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临床表现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病因及护理措施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解释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单纯性肥胖、锌缺乏症的病因，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及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手足搐搦症的的发病机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单纯性肥胖症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及手足搐搦症治疗要点及护理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评估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患儿并为其制订护理计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评估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患儿并为其制订护理计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（体征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下脂肪丰满，分布均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者，胸腹、臀部、大腿皮肤出现白纹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r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两下肢负荷过度→膝外翻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nd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扁平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有假性乳房增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男性患儿阴茎隐藏在脂肪组织中被误诊为阴茎发育不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发育较早，最终身长可低于正常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理障碍，如自卑、胆怯、孤独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实验室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214280" y="2285640"/>
            <a:ext cx="653904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甘油三脂、胆固醇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患儿血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白蛋白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脂肪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71320" y="2285640"/>
            <a:ext cx="7839000" cy="34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饮食疗法和运动疗法是两项主要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物治疗效果不肯定，不宜用于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科手术治疗的并发症严重，不宜用于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小儿单纯性肥胖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那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主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合作性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85840" y="2000160"/>
            <a:ext cx="861048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高于机体需要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与摄入高能量食物过多和（或）运动过少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自我形象紊乱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肥胖引起自身形体改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社交障碍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肥胖造成心理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及家长缺乏合理营养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饮食疗法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二）运动疗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心理支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健康教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右箭头 4"/>
          <p:cNvSpPr/>
          <p:nvPr/>
        </p:nvSpPr>
        <p:spPr>
          <a:xfrm>
            <a:off x="2857680" y="1500120"/>
            <a:ext cx="428400" cy="214560"/>
          </a:xfrm>
          <a:prstGeom prst="rightArrow">
            <a:avLst>
              <a:gd name="adj1" fmla="val 50000"/>
              <a:gd name="adj2" fmla="val 4991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5"/>
          <p:cNvSpPr/>
          <p:nvPr/>
        </p:nvSpPr>
        <p:spPr>
          <a:xfrm>
            <a:off x="3357720" y="1214280"/>
            <a:ext cx="5429160" cy="1143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热量、低脂肪、低糖、高蛋白的饮食适量的维生素和微量元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右箭头 6"/>
          <p:cNvSpPr/>
          <p:nvPr/>
        </p:nvSpPr>
        <p:spPr>
          <a:xfrm>
            <a:off x="2643120" y="2857680"/>
            <a:ext cx="42876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7"/>
          <p:cNvSpPr/>
          <p:nvPr/>
        </p:nvSpPr>
        <p:spPr>
          <a:xfrm>
            <a:off x="3214800" y="2571840"/>
            <a:ext cx="5429160" cy="785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患儿喜欢和有效又易于坚持的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右箭头 8"/>
          <p:cNvSpPr/>
          <p:nvPr/>
        </p:nvSpPr>
        <p:spPr>
          <a:xfrm>
            <a:off x="2643120" y="5500800"/>
            <a:ext cx="42876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矩形 9"/>
          <p:cNvSpPr/>
          <p:nvPr/>
        </p:nvSpPr>
        <p:spPr>
          <a:xfrm>
            <a:off x="3214800" y="4000680"/>
            <a:ext cx="5357880" cy="24285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讲述科学喂养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儿童良好的饮食习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改变家长“越胖越健康”的陈旧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患儿多户外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285840" y="2357280"/>
            <a:ext cx="861048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三节 维生素</a:t>
            </a: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缺乏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600"/>
            <a:ext cx="861048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缺乏性佝偻病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rickets of vitamin D</a:t>
            </a:r>
            <a:r>
              <a:rPr b="1" lang="en-US" sz="2800" spc="-1" strike="noStrike">
                <a:solidFill>
                  <a:srgbClr val="c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deficienc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儿童体内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使钙、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紊乱，产生的一种以骨骼病变为主要特征的全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慢性营养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857240" y="1356840"/>
            <a:ext cx="4624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围生期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照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速度快，需要量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疾病、药物的影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4"/>
          <p:cNvSpPr/>
          <p:nvPr/>
        </p:nvSpPr>
        <p:spPr>
          <a:xfrm>
            <a:off x="3107160" y="914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5"/>
          <p:cNvSpPr/>
          <p:nvPr/>
        </p:nvSpPr>
        <p:spPr>
          <a:xfrm>
            <a:off x="4805280" y="1103400"/>
            <a:ext cx="1909800" cy="14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6715080" y="1077840"/>
            <a:ext cx="0" cy="3128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5659920" y="1285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钙磷吸收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6184080" y="2000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6008400" y="2643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甲状旁腺代偿机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8215200" y="2857680"/>
            <a:ext cx="3812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8572680" y="2857680"/>
            <a:ext cx="0" cy="3808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18"/>
          <p:cNvSpPr/>
          <p:nvPr/>
        </p:nvSpPr>
        <p:spPr>
          <a:xfrm>
            <a:off x="4771800" y="3500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19"/>
          <p:cNvSpPr/>
          <p:nvPr/>
        </p:nvSpPr>
        <p:spPr>
          <a:xfrm>
            <a:off x="8215200" y="31431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21"/>
          <p:cNvSpPr/>
          <p:nvPr/>
        </p:nvSpPr>
        <p:spPr>
          <a:xfrm>
            <a:off x="4667760" y="41432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旧骨脱钙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23"/>
          <p:cNvSpPr/>
          <p:nvPr/>
        </p:nvSpPr>
        <p:spPr>
          <a:xfrm>
            <a:off x="7239600" y="37861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钙不能游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Line 24"/>
          <p:cNvSpPr/>
          <p:nvPr/>
        </p:nvSpPr>
        <p:spPr>
          <a:xfrm>
            <a:off x="5072040" y="457200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25"/>
          <p:cNvSpPr/>
          <p:nvPr/>
        </p:nvSpPr>
        <p:spPr>
          <a:xfrm>
            <a:off x="4588200" y="4714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正常或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Line 26"/>
          <p:cNvSpPr/>
          <p:nvPr/>
        </p:nvSpPr>
        <p:spPr>
          <a:xfrm>
            <a:off x="8572680" y="42861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27"/>
          <p:cNvSpPr/>
          <p:nvPr/>
        </p:nvSpPr>
        <p:spPr>
          <a:xfrm>
            <a:off x="7755840" y="4500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29"/>
          <p:cNvSpPr/>
          <p:nvPr/>
        </p:nvSpPr>
        <p:spPr>
          <a:xfrm>
            <a:off x="4596480" y="5429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钙磷乘积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30"/>
          <p:cNvSpPr/>
          <p:nvPr/>
        </p:nvSpPr>
        <p:spPr>
          <a:xfrm>
            <a:off x="8501040" y="500076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Text Box 31"/>
          <p:cNvSpPr/>
          <p:nvPr/>
        </p:nvSpPr>
        <p:spPr>
          <a:xfrm>
            <a:off x="7533360" y="542916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佝偻病性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足搐搦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33"/>
          <p:cNvSpPr/>
          <p:nvPr/>
        </p:nvSpPr>
        <p:spPr>
          <a:xfrm>
            <a:off x="1890000" y="3500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排磷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Line 34"/>
          <p:cNvSpPr/>
          <p:nvPr/>
        </p:nvSpPr>
        <p:spPr>
          <a:xfrm flipH="1">
            <a:off x="3357720" y="3714840"/>
            <a:ext cx="13716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37"/>
          <p:cNvSpPr/>
          <p:nvPr/>
        </p:nvSpPr>
        <p:spPr>
          <a:xfrm>
            <a:off x="1969560" y="4714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磷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Line 38"/>
          <p:cNvSpPr/>
          <p:nvPr/>
        </p:nvSpPr>
        <p:spPr>
          <a:xfrm flipH="1">
            <a:off x="2617920" y="5143680"/>
            <a:ext cx="46080" cy="57132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Line 39"/>
          <p:cNvSpPr/>
          <p:nvPr/>
        </p:nvSpPr>
        <p:spPr>
          <a:xfrm>
            <a:off x="2571840" y="5715000"/>
            <a:ext cx="167616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Line 40"/>
          <p:cNvSpPr/>
          <p:nvPr/>
        </p:nvSpPr>
        <p:spPr>
          <a:xfrm flipH="1">
            <a:off x="406440" y="1149480"/>
            <a:ext cx="24890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Line 42"/>
          <p:cNvSpPr/>
          <p:nvPr/>
        </p:nvSpPr>
        <p:spPr>
          <a:xfrm flipH="1">
            <a:off x="402840" y="1149480"/>
            <a:ext cx="25560" cy="993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Text Box 43"/>
          <p:cNvSpPr/>
          <p:nvPr/>
        </p:nvSpPr>
        <p:spPr>
          <a:xfrm>
            <a:off x="318240" y="2071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矿化受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Line 44"/>
          <p:cNvSpPr/>
          <p:nvPr/>
        </p:nvSpPr>
        <p:spPr>
          <a:xfrm>
            <a:off x="380880" y="2590920"/>
            <a:ext cx="0" cy="35049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Text Box 45"/>
          <p:cNvSpPr/>
          <p:nvPr/>
        </p:nvSpPr>
        <p:spPr>
          <a:xfrm>
            <a:off x="533880" y="6019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样组织堆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Line 46"/>
          <p:cNvSpPr/>
          <p:nvPr/>
        </p:nvSpPr>
        <p:spPr>
          <a:xfrm>
            <a:off x="2438280" y="6324480"/>
            <a:ext cx="4572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Text Box 47"/>
          <p:cNvSpPr/>
          <p:nvPr/>
        </p:nvSpPr>
        <p:spPr>
          <a:xfrm>
            <a:off x="3071160" y="6064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佝偻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Line 49"/>
          <p:cNvSpPr/>
          <p:nvPr/>
        </p:nvSpPr>
        <p:spPr>
          <a:xfrm flipH="1">
            <a:off x="4114800" y="6324480"/>
            <a:ext cx="9144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Line 24"/>
          <p:cNvSpPr/>
          <p:nvPr/>
        </p:nvSpPr>
        <p:spPr>
          <a:xfrm>
            <a:off x="5000760" y="52149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Line 38"/>
          <p:cNvSpPr/>
          <p:nvPr/>
        </p:nvSpPr>
        <p:spPr>
          <a:xfrm>
            <a:off x="5000760" y="585792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Line 24"/>
          <p:cNvSpPr/>
          <p:nvPr/>
        </p:nvSpPr>
        <p:spPr>
          <a:xfrm>
            <a:off x="5072040" y="392904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Line 30"/>
          <p:cNvSpPr/>
          <p:nvPr/>
        </p:nvSpPr>
        <p:spPr>
          <a:xfrm>
            <a:off x="2617920" y="3929040"/>
            <a:ext cx="46080" cy="8571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Line 26"/>
          <p:cNvSpPr/>
          <p:nvPr/>
        </p:nvSpPr>
        <p:spPr>
          <a:xfrm>
            <a:off x="8572680" y="357192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Line 24"/>
          <p:cNvSpPr/>
          <p:nvPr/>
        </p:nvSpPr>
        <p:spPr>
          <a:xfrm>
            <a:off x="6715080" y="17859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Line 24"/>
          <p:cNvSpPr/>
          <p:nvPr/>
        </p:nvSpPr>
        <p:spPr>
          <a:xfrm>
            <a:off x="6715080" y="242892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TextBox 57"/>
          <p:cNvSpPr/>
          <p:nvPr/>
        </p:nvSpPr>
        <p:spPr>
          <a:xfrm>
            <a:off x="428760" y="285840"/>
            <a:ext cx="87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发病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Line 30"/>
          <p:cNvSpPr/>
          <p:nvPr/>
        </p:nvSpPr>
        <p:spPr>
          <a:xfrm>
            <a:off x="5143680" y="307188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Line 16"/>
          <p:cNvSpPr/>
          <p:nvPr/>
        </p:nvSpPr>
        <p:spPr>
          <a:xfrm>
            <a:off x="5143680" y="3000240"/>
            <a:ext cx="38088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50560" y="2205000"/>
            <a:ext cx="4825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第一节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蛋白质</a:t>
            </a:r>
            <a:r>
              <a:rPr b="1" lang="en-US" sz="3600" spc="-1" strike="noStrike">
                <a:solidFill>
                  <a:srgbClr val="8ac8de"/>
                </a:solidFill>
                <a:latin typeface="宋体"/>
                <a:ea typeface="宋体"/>
              </a:rPr>
              <a:t>-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能量营养不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6" descr="http://i8.hexunimg.cn/2011-07-30/131906649.jpg"/>
          <p:cNvPicPr/>
          <p:nvPr/>
        </p:nvPicPr>
        <p:blipFill>
          <a:blip r:embed="rId1"/>
          <a:srcRect l="0" t="0" r="0" b="19716"/>
          <a:stretch/>
        </p:blipFill>
        <p:spPr>
          <a:xfrm>
            <a:off x="4932360" y="2924280"/>
            <a:ext cx="34718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多汗、阵发性哭闹，以夜间明显，母亲诉患儿未补充钙剂及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“哭闹原因待查”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6.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枕部可见环型脱发，胸廓呈桶状，轻度郝氏沟及肋缘外翻，无肋间串珠，四肢活动支持，脊柱无畸形，心肺（—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a 1.0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初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精神症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激惹、烦躁、夜惊、多汗、枕部脱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症状不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：正常或仅临时钙化带模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或稍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　　　    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或稍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K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稍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1" name="图片 1" descr="http://img02.sogoucdn.com/app/a/100520061/14ecdfec787e857edd6418d49f9be050"/>
          <p:cNvPicPr/>
          <p:nvPr/>
        </p:nvPicPr>
        <p:blipFill>
          <a:blip r:embed="rId1"/>
          <a:stretch/>
        </p:blipFill>
        <p:spPr>
          <a:xfrm>
            <a:off x="5786280" y="3786120"/>
            <a:ext cx="285768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神经、精神症状更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骼改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头部：颅骨软化、方颅、前囟晚闭、出牙延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胸部：肋骨串珠、肋膈沟、鸡胸、漏斗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四肢：手镯症、脚镯症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腿、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X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脊柱：后凸、侧弯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盆：扁平骨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图片 38" descr="http://photo.renwen.com/5/30/503001_1355190832662423.jpg"/>
          <p:cNvPicPr/>
          <p:nvPr/>
        </p:nvPicPr>
        <p:blipFill>
          <a:blip r:embed="rId1"/>
          <a:stretch/>
        </p:blipFill>
        <p:spPr>
          <a:xfrm>
            <a:off x="500040" y="1500120"/>
            <a:ext cx="2409840" cy="175284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54" descr="http://s2.sinaimg.cn/middle/8310369cnb097ff10d7a1&amp;690"/>
          <p:cNvPicPr/>
          <p:nvPr/>
        </p:nvPicPr>
        <p:blipFill>
          <a:blip r:embed="rId2"/>
          <a:stretch/>
        </p:blipFill>
        <p:spPr>
          <a:xfrm>
            <a:off x="3357720" y="1500120"/>
            <a:ext cx="2338200" cy="1928880"/>
          </a:xfrm>
          <a:prstGeom prst="rect">
            <a:avLst/>
          </a:prstGeom>
          <a:ln w="0">
            <a:noFill/>
          </a:ln>
        </p:spPr>
      </p:pic>
      <p:pic>
        <p:nvPicPr>
          <p:cNvPr id="328" name="图片 19" descr="http://a2.att.hudong.com/11/28/01300000243587122274288523622_s.jpg"/>
          <p:cNvPicPr/>
          <p:nvPr/>
        </p:nvPicPr>
        <p:blipFill>
          <a:blip r:embed="rId3"/>
          <a:srcRect l="0" t="50340" r="0" b="0"/>
          <a:stretch/>
        </p:blipFill>
        <p:spPr>
          <a:xfrm>
            <a:off x="6072120" y="1500120"/>
            <a:ext cx="2214720" cy="185112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68" descr="C:\Users\Administrator\Desktop\u=954030990,2963186130&amp;fm=21&amp;gp=0.jpg"/>
          <p:cNvPicPr/>
          <p:nvPr/>
        </p:nvPicPr>
        <p:blipFill>
          <a:blip r:embed="rId4"/>
          <a:stretch/>
        </p:blipFill>
        <p:spPr>
          <a:xfrm>
            <a:off x="785880" y="4214880"/>
            <a:ext cx="2371680" cy="178128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16" descr="http://www.xizi120.com/uploads/allimg/121204/1_121204175229_1.jpg"/>
          <p:cNvPicPr/>
          <p:nvPr/>
        </p:nvPicPr>
        <p:blipFill>
          <a:blip r:embed="rId5"/>
          <a:srcRect l="12853" t="6776" r="0" b="45151"/>
          <a:stretch/>
        </p:blipFill>
        <p:spPr>
          <a:xfrm>
            <a:off x="4357800" y="4071960"/>
            <a:ext cx="40575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肉关节松弛、肌张力↓、动作发育晚、蛙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神经系统发育迟滞：表情呆木、动作、语言、智力发育落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X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线：骨骺软骨带增宽、临时钙化带模糊、骨质疏松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生化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稍↓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P]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Ca]* [P]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KP↑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1"/>
          <a:stretch/>
        </p:blipFill>
        <p:spPr>
          <a:xfrm>
            <a:off x="714240" y="2071800"/>
            <a:ext cx="77788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精神症状好转、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改进恢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、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*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KP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遗症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畸形： 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形腿、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形腿、鸡胸、漏斗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：骨骼干骺端病变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目的在于控制活动期，防止骨骼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主张采用大剂量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，治疗的原则应以口服为主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剂量：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0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疗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后改预防剂量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当重症佝偻病有并发症或无法口服者可一次性大剂量肌内注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后改预防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85560" y="2356920"/>
            <a:ext cx="600084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型：能量供应不足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以蛋白质供应不足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介于两者之间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钙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从膳食的牛奶、配方奶和豆制品补充钙和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只要足够牛奶（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不需要补充钙剂，仅在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钙表现、严重佝偻病和营养不足时需要补充钙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辅助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营养，足够奶量，及时添加转乳食品，户外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4"/>
          <p:cNvSpPr/>
          <p:nvPr/>
        </p:nvSpPr>
        <p:spPr>
          <a:xfrm>
            <a:off x="755640" y="162864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小儿佝偻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5680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56760" y="1714680"/>
            <a:ext cx="861084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低于机体需要量  与日光照射不足和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入不足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免疫功能下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潜在并发症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畸形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家长缺乏佝偻病的预防及护理知识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一）户外活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二）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三）预防骨骼畸形和骨折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右箭头 4"/>
          <p:cNvSpPr/>
          <p:nvPr/>
        </p:nvSpPr>
        <p:spPr>
          <a:xfrm>
            <a:off x="3214800" y="242892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矩形 5"/>
          <p:cNvSpPr/>
          <p:nvPr/>
        </p:nvSpPr>
        <p:spPr>
          <a:xfrm>
            <a:off x="3786120" y="1428840"/>
            <a:ext cx="4429080" cy="1857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母乳喂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给予富含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钙的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遵医嘱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右箭头 6"/>
          <p:cNvSpPr/>
          <p:nvPr/>
        </p:nvSpPr>
        <p:spPr>
          <a:xfrm>
            <a:off x="4143240" y="4143240"/>
            <a:ext cx="500040" cy="214560"/>
          </a:xfrm>
          <a:prstGeom prst="rightArrow">
            <a:avLst>
              <a:gd name="adj1" fmla="val 50000"/>
              <a:gd name="adj2" fmla="val 4994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矩形 7"/>
          <p:cNvSpPr/>
          <p:nvPr/>
        </p:nvSpPr>
        <p:spPr>
          <a:xfrm>
            <a:off x="4714920" y="3357720"/>
            <a:ext cx="4214880" cy="3000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衣着柔软、宽松，床铺松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避免过早、过久的坐、站及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行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护理操作应轻柔，避免重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用力牵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预防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五）后遗症护理  采取主动和被动运动的方法矫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六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右箭头 4"/>
          <p:cNvSpPr/>
          <p:nvPr/>
        </p:nvSpPr>
        <p:spPr>
          <a:xfrm>
            <a:off x="2643120" y="292896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矩形 5"/>
          <p:cNvSpPr/>
          <p:nvPr/>
        </p:nvSpPr>
        <p:spPr>
          <a:xfrm>
            <a:off x="3071880" y="1285920"/>
            <a:ext cx="5786280" cy="4929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介绍佝偻病的病因、预防及护理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孕妇多户外活动，食用富含钙、磷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提倡母乳喂养，婴儿尽早开始户外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告诉家长一般可不加服钙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有关户外活动、日光浴、服用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按摩肌肉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285840" y="2357280"/>
            <a:ext cx="861048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第三节 维生素</a:t>
            </a:r>
            <a:r>
              <a:rPr b="1" lang="en-US" sz="3600" spc="-1" strike="noStrike">
                <a:solidFill>
                  <a:srgbClr val="7acdfc"/>
                </a:solidFill>
                <a:latin typeface="Verdana"/>
                <a:ea typeface="宋体"/>
              </a:rPr>
              <a:t>D</a:t>
            </a: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缺乏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手足搐搦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0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5mg/dl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游离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mg/dl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AutoShape 4"/>
          <p:cNvSpPr/>
          <p:nvPr/>
        </p:nvSpPr>
        <p:spPr>
          <a:xfrm>
            <a:off x="4714920" y="2786040"/>
            <a:ext cx="214200" cy="1500120"/>
          </a:xfrm>
          <a:custGeom>
            <a:avLst/>
            <a:gdLst>
              <a:gd name="textAreaLeft" fmla="*/ 0 w 214200"/>
              <a:gd name="textAreaRight" fmla="*/ 77400 w 214200"/>
              <a:gd name="textAreaTop" fmla="*/ 25560 h 1500120"/>
              <a:gd name="textAreaBottom" fmla="*/ 147456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92"/>
                  <a:pt x="10800" y="1183"/>
                </a:cubicBezTo>
                <a:lnTo>
                  <a:pt x="10800" y="9441"/>
                </a:lnTo>
                <a:cubicBezTo>
                  <a:pt x="10800" y="10033"/>
                  <a:pt x="16200" y="10624"/>
                  <a:pt x="21600" y="10624"/>
                </a:cubicBezTo>
                <a:cubicBezTo>
                  <a:pt x="16200" y="10624"/>
                  <a:pt x="10800" y="11216"/>
                  <a:pt x="10800" y="11807"/>
                </a:cubicBezTo>
                <a:lnTo>
                  <a:pt x="10800" y="20417"/>
                </a:lnTo>
                <a:cubicBezTo>
                  <a:pt x="10800" y="21009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5286240" y="292896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肌肉兴奋性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惊厥或手足搐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下箭头 6"/>
          <p:cNvSpPr/>
          <p:nvPr/>
        </p:nvSpPr>
        <p:spPr>
          <a:xfrm>
            <a:off x="6429240" y="3429000"/>
            <a:ext cx="214560" cy="2858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，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阵发性肢体抖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，母亲诉患儿未补充钙剂及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“抽搐待查”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6.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阵发性肢体抖动，持续时间约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钟，可自行缓解，四肢肌张力正常，脊柱无畸形，心肺（—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陶瑟征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腓反射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a 1.0mmol/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典型发作 （血清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75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惊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足搐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喉痉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4" name="Picture 3" descr=""/>
          <p:cNvPicPr/>
          <p:nvPr/>
        </p:nvPicPr>
        <p:blipFill>
          <a:blip r:embed="rId1"/>
          <a:stretch/>
        </p:blipFill>
        <p:spPr>
          <a:xfrm>
            <a:off x="2643120" y="2143080"/>
            <a:ext cx="5510160" cy="3571920"/>
          </a:xfrm>
          <a:prstGeom prst="rect">
            <a:avLst/>
          </a:prstGeom>
          <a:ln w="0">
            <a:noFill/>
          </a:ln>
        </p:spPr>
      </p:pic>
      <p:sp>
        <p:nvSpPr>
          <p:cNvPr id="385" name="右箭头 5"/>
          <p:cNvSpPr/>
          <p:nvPr/>
        </p:nvSpPr>
        <p:spPr>
          <a:xfrm>
            <a:off x="1928880" y="3714840"/>
            <a:ext cx="571320" cy="28584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1d1496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隐匿型  （血清钙多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7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88mmol/L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面神经征：以手指尖或叩诊锤轻击患儿颧弓与口角的面颊部，引起眼睑和口角抽动者为阳性，新生儿可呈假阳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陶瑟征：以血压计袖带包裹上臂，使血压维持在收缩压与舒张压之间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之内该手出现痉挛状为阳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腓反射：以叩诊锤击膝下外侧腓神经处，引起足向外侧收缩者外为阳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3840" y="1785600"/>
            <a:ext cx="828684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蛋白质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能量营养不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由于缺乏能量和（或）蛋白质所致的一种营养缺乏症，主要见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婴幼儿，主要表现为体重不增、体重下降、皮下脂肪减少和皮下水肿，常伴有全身各组织脏器不同程度的功能低下及新陈代谢失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急救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氧气吸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迅速控制惊厥或喉痉挛：苯巴比妥，水合氯醛或地西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钙剂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酸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 ml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理盐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Line 5"/>
          <p:cNvSpPr/>
          <p:nvPr/>
        </p:nvSpPr>
        <p:spPr>
          <a:xfrm flipH="1">
            <a:off x="3714480" y="2428920"/>
            <a:ext cx="60948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4792320" y="26431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静脉推注，慢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手足搐搦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窒息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惊厥、喉痉挛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低于机体需要量  与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控制惊厥、喉痉挛  遵医嘱立即使用镇静剂、钙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防止窒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定期户外活动，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右箭头 4"/>
          <p:cNvSpPr/>
          <p:nvPr/>
        </p:nvSpPr>
        <p:spPr>
          <a:xfrm>
            <a:off x="2643120" y="5286240"/>
            <a:ext cx="42876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矩形 5"/>
          <p:cNvSpPr/>
          <p:nvPr/>
        </p:nvSpPr>
        <p:spPr>
          <a:xfrm>
            <a:off x="3214800" y="2000160"/>
            <a:ext cx="5643360" cy="44290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家长讲解预防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的相关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会家长惊厥、喉痉挛发作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出院后按医嘱给小儿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钙剂，强调口服钙剂应与乳类分开，最好在两餐之间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213840" y="2636640"/>
            <a:ext cx="861084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第 四 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锌 缺 乏 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13840" y="2356920"/>
            <a:ext cx="8610840" cy="29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锌缺乏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zinc deficienc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锌摄入不足或代谢障碍导致体内锌缺乏，引起食欲减退、生长发育迟缓、皮炎及异食癖等临床表现的营养素缺乏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8584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摄入不足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谷类等植物性食物含锌少，素食者容易缺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吸收障碍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种原因所致的腹泻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谷类食物中的植酸和粗纤维妨碍锌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需要量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丢失过多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反复出血、溶血、大面积烧伤、慢性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期透析、蛋白尿以及长期应用金属螯合剂（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霉胺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79280" y="13568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传性疾病  肠病性肢端皮炎因小肠缺乏吸收锌的载体致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含锌量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  铅中毒及被动吸烟所致镉污染严重者，影响锌的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厌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母亲诉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停母乳喂养后，体重增加不明显，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体重减轻，精神差，门诊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9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0.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差，毛发稀疏，可见地图舌，仅会发双音“爸爸”“妈妈”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辅助检查：空腹血清锌浓度  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.42μ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43040" y="2071800"/>
            <a:ext cx="657216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期摄入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吸收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需要量增加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耗量过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喂养不当是导致营养不良的重要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功能减退  味觉敏感度下降，食欲缺乏、厌食、异食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发育落后  生长发育迟缓、体格矮小，年长儿可出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发育延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免疫功能降低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智能发育延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  如脱发、皮肤粗糙、皮炎、地图舌、反复口腔溃疡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伤口愈合延迟、夜盲、贫血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实验室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空腹血清锌浓度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最低值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1.47μmol/L(75μg/dl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餐后血清锌浓度反应试验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PICR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测定空腹血清锌浓度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为基础水平，然后给予标准饮食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后复查血清锌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按公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CR=(A0-A2)/A0×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C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％提示缺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针对病因治疗原发病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饮食治疗，多进食富含锌的动物性食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补充锌制剂，常用葡萄糖酸锌，每日剂量为元素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0mg/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疗程一般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ICR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明确诊断为锌缺乏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护理诊断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合作性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85840" y="1642680"/>
            <a:ext cx="861048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摄入不足， 吸收障碍、丢失增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缺乏导致免疫功能低下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迟缓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缺乏影响核酸和蛋白质的合成、生长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素分泌减低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家长缺乏营养知识及小儿喂养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改善营养，促进生长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感染  保持室内空气新鲜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口腔护理和皮肤护理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交叉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健康教育  向家长解释缺锌的原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能正确配合治疗和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右箭头 4"/>
          <p:cNvSpPr/>
          <p:nvPr/>
        </p:nvSpPr>
        <p:spPr>
          <a:xfrm>
            <a:off x="4429080" y="150012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" name="矩形 5"/>
          <p:cNvSpPr/>
          <p:nvPr/>
        </p:nvSpPr>
        <p:spPr>
          <a:xfrm>
            <a:off x="5506920" y="1052640"/>
            <a:ext cx="3672000" cy="4535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进食含锌量较多的动物性食物如肝、鱼、瘦肉、禽蛋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提倡母乳喂养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引入换乳期食物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儿童不偏食、不挑食的饮食习惯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533520" y="2928960"/>
            <a:ext cx="86104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92aa2"/>
                </a:solidFill>
                <a:latin typeface="华文隶书"/>
                <a:ea typeface="华文隶书"/>
              </a:rPr>
              <a:t>谢谢！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95280" y="2708280"/>
            <a:ext cx="1514520" cy="64944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喂养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468360" y="4508640"/>
            <a:ext cx="1295280" cy="72072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2771640" y="3502080"/>
            <a:ext cx="1800360" cy="7905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营养不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36000" y="4437000"/>
            <a:ext cx="1441440" cy="7207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皮下脂肪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体重减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5219640" y="3357720"/>
            <a:ext cx="1225440" cy="647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消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7020000" y="1773360"/>
            <a:ext cx="1297080" cy="79200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4861080" y="1917720"/>
            <a:ext cx="1223640" cy="719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低蛋白血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3995640" y="5300640"/>
            <a:ext cx="1224000" cy="504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糖原累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2556000" y="5589720"/>
            <a:ext cx="1224000" cy="50328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低体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7164360" y="3213000"/>
            <a:ext cx="1368360" cy="79236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肝脂肪浸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变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5580000" y="4581360"/>
            <a:ext cx="1224000" cy="505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消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15"/>
          <p:cNvSpPr/>
          <p:nvPr/>
        </p:nvSpPr>
        <p:spPr>
          <a:xfrm>
            <a:off x="5867280" y="5157720"/>
            <a:ext cx="1225800" cy="64764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低血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16"/>
          <p:cNvSpPr/>
          <p:nvPr/>
        </p:nvSpPr>
        <p:spPr>
          <a:xfrm flipV="1">
            <a:off x="6372360" y="3645000"/>
            <a:ext cx="792000" cy="218880"/>
          </a:xfrm>
          <a:prstGeom prst="rightArrow">
            <a:avLst>
              <a:gd name="adj1" fmla="val 50000"/>
              <a:gd name="adj2" fmla="val 90461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17"/>
          <p:cNvSpPr/>
          <p:nvPr/>
        </p:nvSpPr>
        <p:spPr>
          <a:xfrm flipV="1">
            <a:off x="6227640" y="2060640"/>
            <a:ext cx="865440" cy="288720"/>
          </a:xfrm>
          <a:prstGeom prst="rightArrow">
            <a:avLst>
              <a:gd name="adj1" fmla="val 50000"/>
              <a:gd name="adj2" fmla="val 74938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AutoShape 18"/>
          <p:cNvSpPr/>
          <p:nvPr/>
        </p:nvSpPr>
        <p:spPr>
          <a:xfrm>
            <a:off x="4645080" y="3645000"/>
            <a:ext cx="576360" cy="220680"/>
          </a:xfrm>
          <a:prstGeom prst="rightArrow">
            <a:avLst>
              <a:gd name="adj1" fmla="val 50000"/>
              <a:gd name="adj2" fmla="val 652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9"/>
          <p:cNvSpPr/>
          <p:nvPr/>
        </p:nvSpPr>
        <p:spPr>
          <a:xfrm flipV="1">
            <a:off x="6805440" y="4652280"/>
            <a:ext cx="360360" cy="220680"/>
          </a:xfrm>
          <a:prstGeom prst="rightArrow">
            <a:avLst>
              <a:gd name="adj1" fmla="val 50000"/>
              <a:gd name="adj2" fmla="val 40824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20"/>
          <p:cNvSpPr/>
          <p:nvPr/>
        </p:nvSpPr>
        <p:spPr>
          <a:xfrm flipV="1">
            <a:off x="5292720" y="5373720"/>
            <a:ext cx="503280" cy="218880"/>
          </a:xfrm>
          <a:prstGeom prst="rightArrow">
            <a:avLst>
              <a:gd name="adj1" fmla="val 50000"/>
              <a:gd name="adj2" fmla="val 57484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21"/>
          <p:cNvSpPr/>
          <p:nvPr/>
        </p:nvSpPr>
        <p:spPr>
          <a:xfrm>
            <a:off x="3203640" y="4438800"/>
            <a:ext cx="216000" cy="1079280"/>
          </a:xfrm>
          <a:prstGeom prst="downArrow">
            <a:avLst>
              <a:gd name="adj1" fmla="val 50000"/>
              <a:gd name="adj2" fmla="val 124917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22"/>
          <p:cNvSpPr/>
          <p:nvPr/>
        </p:nvSpPr>
        <p:spPr>
          <a:xfrm>
            <a:off x="4356000" y="4365720"/>
            <a:ext cx="216000" cy="936360"/>
          </a:xfrm>
          <a:prstGeom prst="downArrow">
            <a:avLst>
              <a:gd name="adj1" fmla="val 50000"/>
              <a:gd name="adj2" fmla="val 108375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23"/>
          <p:cNvSpPr/>
          <p:nvPr/>
        </p:nvSpPr>
        <p:spPr>
          <a:xfrm>
            <a:off x="5869080" y="3933720"/>
            <a:ext cx="144360" cy="719280"/>
          </a:xfrm>
          <a:prstGeom prst="downArrow">
            <a:avLst>
              <a:gd name="adj1" fmla="val 50000"/>
              <a:gd name="adj2" fmla="val 124564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24"/>
          <p:cNvSpPr/>
          <p:nvPr/>
        </p:nvSpPr>
        <p:spPr>
          <a:xfrm rot="18600000">
            <a:off x="2157120" y="3034800"/>
            <a:ext cx="291960" cy="1079640"/>
          </a:xfrm>
          <a:prstGeom prst="downArrow">
            <a:avLst>
              <a:gd name="adj1" fmla="val 50000"/>
              <a:gd name="adj2" fmla="val 92448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25"/>
          <p:cNvSpPr/>
          <p:nvPr/>
        </p:nvSpPr>
        <p:spPr>
          <a:xfrm rot="14460000">
            <a:off x="2195280" y="3933000"/>
            <a:ext cx="215640" cy="1079640"/>
          </a:xfrm>
          <a:prstGeom prst="downArrow">
            <a:avLst>
              <a:gd name="adj1" fmla="val 50000"/>
              <a:gd name="adj2" fmla="val 125167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26"/>
          <p:cNvSpPr/>
          <p:nvPr/>
        </p:nvSpPr>
        <p:spPr>
          <a:xfrm rot="13440000">
            <a:off x="4190760" y="2012400"/>
            <a:ext cx="306360" cy="1555560"/>
          </a:xfrm>
          <a:prstGeom prst="downArrow">
            <a:avLst>
              <a:gd name="adj1" fmla="val 50000"/>
              <a:gd name="adj2" fmla="val 126939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2880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600"/>
            <a:ext cx="8610480" cy="5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代谢失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6"/>
          <p:cNvSpPr/>
          <p:nvPr/>
        </p:nvSpPr>
        <p:spPr>
          <a:xfrm>
            <a:off x="785880" y="2214720"/>
            <a:ext cx="7929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负氮平衡，低蛋白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胆固醇下降，脂肪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糖偏低，重者可引起低血糖昏迷甚至猝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渗性脱水、酸中毒、低钠血症、低钙血症、低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温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刘云涛</cp:lastModifiedBy>
  <dcterms:modified xsi:type="dcterms:W3CDTF">2015-09-06T09:08:15Z</dcterms:modified>
  <cp:revision>13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